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D0CF-0990-46CC-A59B-79F8F4CEC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4D9C-17D3-4C07-B6B8-AC44551B6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A6A0-0599-4877-B893-78170A2A0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1630-85EB-43BA-BEC8-DC60C5829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CD48-EE4A-425C-8B15-63937A366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5BF0-7B58-4793-AE34-D8C83C958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8644-5441-4A6E-8FC7-ECFF80B41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0DF4-488A-4B1D-A9AD-BDB7F5544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554B-9BDB-4A9D-B312-CFE748B64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61F5-7084-40CA-9582-875FF8C53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D971-23DB-40A3-B997-D3BDEAEA0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878E-0B9A-4C27-AA36-C16374A18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15C5-0889-4CB9-8F2B-BBBDE917FA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D8D0-CED1-46DD-802A-378B9B9DE5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gling to Music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you have encountered who has a learning disability and finds learning particularly challenging.  Which of the cognitive processes pose challenges for this student?  How did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1E9D-8E1A-46B1-BE04-AC0F0D39F4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TIPS lesson from the sample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9 Applied -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0 Applied - Trigon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Workplace -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Functions and Applications -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2 Advanced Functions - Ration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5CAE-6561-4161-851D-BBE7E74AB5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lesson to familiarize yourself with the content and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t again with the cognitive processes in mind,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accommodations to better meet needs of students with learning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accommodations already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31AE-25AE-4B4C-B302-3BE28DB25E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nah Zike’s Teach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ematics with 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33A6-A44E-4019-86AB-84A5B07B92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33520" y="2017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dables result in student-made study guides that are compiled as students listen for main ideas, read for main ideas, and work their way through new concepts and proced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DABA-B377-41B2-81F3-AF6587AF6A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652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49A9-FED9-4739-9E5F-80BF64A8C1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144440" y="304920"/>
            <a:ext cx="693288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2266-D1E6-4AFB-870E-3070988285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7960" cy="403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01788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E513-1606-48F7-B139-F132306311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6553080" y="76320"/>
            <a:ext cx="152424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ree-Tab Boo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247D-0BD3-41DD-9095-A1D792B07F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57200" y="609480"/>
            <a:ext cx="51814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a sheet of paper like a hot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th the paper horizontal, and the fold of the hot dog up, fold the right side toward the center, trying to cover one half of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the left side over the right side to make a book with three f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pen the folded book. Cut up the two valleys on the top side only. This will form three ta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this book for data occurring in th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6116760" y="533520"/>
            <a:ext cx="1655640" cy="76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447560" cy="114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838440" cy="1303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4"/>
          <a:stretch/>
        </p:blipFill>
        <p:spPr>
          <a:xfrm>
            <a:off x="6515280" y="4038480"/>
            <a:ext cx="1866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4089-2B92-46DA-8DA4-56B1DEB0C4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4800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990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4114800" cy="1768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1828800" cy="3448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4246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23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2000"/>
          </a:bodyPr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discuss and expl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gnitive processes, and how they impact students with learning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to increase success for students with learning disabilities (e.g. creating fold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548E-0B4C-40CB-B8A4-66ADDA8ED0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0D61-E44C-44F3-8E38-AFD74D0A0F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41120" y="380880"/>
            <a:ext cx="8622000" cy="396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759280" y="3219480"/>
            <a:ext cx="285120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6EDF-5204-4BB9-AE9E-78B3063CC8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B95D-3A2F-48C0-8CF2-3FD493CCBA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27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1E29-DE12-43A3-B909-C18441DB88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81280" cy="253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9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3"/>
          <a:stretch/>
        </p:blipFill>
        <p:spPr>
          <a:xfrm>
            <a:off x="1295280" y="2971800"/>
            <a:ext cx="4373640" cy="175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4"/>
          <a:stretch/>
        </p:blipFill>
        <p:spPr>
          <a:xfrm>
            <a:off x="6934320" y="2514600"/>
            <a:ext cx="1600200" cy="3745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5"/>
          <a:stretch/>
        </p:blipFill>
        <p:spPr>
          <a:xfrm>
            <a:off x="2438280" y="4876920"/>
            <a:ext cx="4192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D81B-B8DF-4FF3-88A6-3175257C10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872784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6985080" y="4495680"/>
            <a:ext cx="871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295F-85DF-4DA9-887A-5C271DB39F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32560" cy="5181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5410080" y="152280"/>
            <a:ext cx="1828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954B-8175-4BC1-8C12-02943EC3DC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274680" y="314280"/>
            <a:ext cx="7954920" cy="501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5570640" y="5562720"/>
            <a:ext cx="24303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F221-8196-4A5F-8D50-98D67D81E1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1"/>
          <a:stretch/>
        </p:blipFill>
        <p:spPr>
          <a:xfrm>
            <a:off x="560520" y="-495360"/>
            <a:ext cx="8126280" cy="59054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5105520" y="-45720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6456-7B78-45C7-9796-839EDA276E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304920" y="160020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emplate from the samples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able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foldable” related to your TIPS lesson to support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140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reate a “Foldable”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C12B-2208-49C1-B5D6-C850F49333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609480" y="134928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look at the foldable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foldables help students with learning dis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ADE5-1781-4001-B12C-A79677818C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35080" y="1676520"/>
            <a:ext cx="8680320" cy="3759120"/>
            <a:chOff x="235080" y="1676520"/>
            <a:chExt cx="8680320" cy="3759120"/>
          </a:xfrm>
        </p:grpSpPr>
        <p:pic>
          <p:nvPicPr>
            <p:cNvPr id="5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7652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7180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8"/>
            <p:cNvSpPr/>
            <p:nvPr/>
          </p:nvSpPr>
          <p:spPr>
            <a:xfrm>
              <a:off x="3664080" y="34290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5873760" y="34290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B5B5-A95E-4C74-B3FD-B22C67B645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tp://mathnmind.com/PDF%20Files/Pre-Algebra/dzf.pdf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br>
              <a:rPr sz="2400"/>
            </a:b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91C5-707E-4308-90AD-97DA8A5872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362320" y="1257480"/>
            <a:ext cx="4495680" cy="3085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2286000" y="4495680"/>
            <a:ext cx="4729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is September, and you are working with a new teacher on lesson plan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Math Camp, you have become more aware of the cognitive processes, and how they impact students with learning dis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2 or 3 pieces of advice could you give to help the teacher plan lessons to better meet the needs of these stud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4CE4-36E2-461A-B87B-1C423666FC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335F-3C9E-420C-B44A-78BF34789B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6"/>
          <p:cNvGrpSpPr/>
          <p:nvPr/>
        </p:nvGrpSpPr>
        <p:grpSpPr>
          <a:xfrm>
            <a:off x="235080" y="1600200"/>
            <a:ext cx="8680320" cy="3809880"/>
            <a:chOff x="235080" y="1600200"/>
            <a:chExt cx="8680320" cy="380988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5096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4624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8"/>
            <p:cNvSpPr/>
            <p:nvPr/>
          </p:nvSpPr>
          <p:spPr>
            <a:xfrm>
              <a:off x="3664080" y="340344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5873760" y="340344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8"/>
            <p:cNvSpPr/>
            <p:nvPr/>
          </p:nvSpPr>
          <p:spPr>
            <a:xfrm>
              <a:off x="4114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9"/>
            <p:cNvSpPr/>
            <p:nvPr/>
          </p:nvSpPr>
          <p:spPr>
            <a:xfrm>
              <a:off x="6400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0"/>
            <p:cNvSpPr/>
            <p:nvPr/>
          </p:nvSpPr>
          <p:spPr>
            <a:xfrm>
              <a:off x="82296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1"/>
            <p:cNvSpPr/>
            <p:nvPr/>
          </p:nvSpPr>
          <p:spPr>
            <a:xfrm>
              <a:off x="3886200" y="43178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76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6096240" y="43135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686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5"/>
            <p:cNvSpPr/>
            <p:nvPr/>
          </p:nvSpPr>
          <p:spPr>
            <a:xfrm>
              <a:off x="3048120" y="1600200"/>
              <a:ext cx="137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Answe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C04D-F71A-4EBC-A6C8-CBDBCA8EAD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387360" y="1523880"/>
            <a:ext cx="8528040" cy="3810240"/>
            <a:chOff x="387360" y="1523880"/>
            <a:chExt cx="8528040" cy="3810240"/>
          </a:xfrm>
        </p:grpSpPr>
        <p:pic>
          <p:nvPicPr>
            <p:cNvPr id="7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523880"/>
              <a:ext cx="58611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"/>
            <p:cNvPicPr/>
            <p:nvPr/>
          </p:nvPicPr>
          <p:blipFill>
            <a:blip r:embed="rId2"/>
            <a:stretch/>
          </p:blipFill>
          <p:spPr>
            <a:xfrm>
              <a:off x="387360" y="2895480"/>
              <a:ext cx="243828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8"/>
            <p:cNvSpPr/>
            <p:nvPr/>
          </p:nvSpPr>
          <p:spPr>
            <a:xfrm>
              <a:off x="3581280" y="327672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5873760" y="327672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EDA1-CEC6-4A57-84E1-82F91303B6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5"/>
          <p:cNvGrpSpPr/>
          <p:nvPr/>
        </p:nvGrpSpPr>
        <p:grpSpPr>
          <a:xfrm>
            <a:off x="304920" y="1828800"/>
            <a:ext cx="8534160" cy="3119400"/>
            <a:chOff x="304920" y="1828800"/>
            <a:chExt cx="8534160" cy="3119400"/>
          </a:xfrm>
        </p:grpSpPr>
        <p:pic>
          <p:nvPicPr>
            <p:cNvPr id="83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197856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2971800" y="1828800"/>
              <a:ext cx="5867280" cy="28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8"/>
            <p:cNvSpPr/>
            <p:nvPr/>
          </p:nvSpPr>
          <p:spPr>
            <a:xfrm>
              <a:off x="3595680" y="34578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20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5791320" y="35028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alibri"/>
                </a:rPr>
                <a:t>113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6337-29CE-476D-8C12-7132F56B35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18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142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students with learning disabilities in your school (i.e. in which course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ways your math department/school/Board currently supports students with learning disabilities that you think a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7667-A2CF-408A-8B1B-CC98BB36A3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581640" cy="2209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429000" cy="2214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3808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ips would you give secondary math teachers to help them better meet the needs of students with these types of learning disabil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3520" y="3287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Comprehension –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952880" y="3287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and Decoding – p b d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2209680" y="62150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F.A.T. City Workshops (Frustration, Anxiety, Tension), Rick Lavoie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1T18:13:19Z</dcterms:modified>
  <cp:revision>57</cp:revision>
  <dc:subject/>
  <dc:title>&lt;Title&gt;</dc:title>
</cp:coreProperties>
</file>